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DA4-70D7-4036-9435-FE38D6A1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604-EC41-4C3C-AC69-7AB11376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A59-0610-4E84-8DB4-1F9138D1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3CE-A8D2-4313-899A-F58D8BB2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225-C347-4F82-ACE7-3D68CE5E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6A0-5B02-43B8-AB0A-846BB311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65B-E78A-4D57-87DB-61024851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EA8-744E-488D-9553-AB81C3F1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080-D687-448E-8CC8-F07938CE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79B-97F3-4ACB-A152-479243C1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50C-E3CE-4104-8331-B4E6BC30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EA6-0A71-4EA2-8F8C-5704319B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E5F6-F9CF-4DAE-881D-A516750EB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30160"/>
          <a:ext cx="7169040" cy="52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0160"/>
                    <a:ext cx="716904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7588080" y="1486080"/>
            <a:ext cx="898560" cy="3910680"/>
            <a:chOff x="7588080" y="1486080"/>
            <a:chExt cx="898560" cy="3910680"/>
          </a:xfrm>
        </p:grpSpPr>
        <p:sp>
          <p:nvSpPr>
            <p:cNvPr id="44" name=""/>
            <p:cNvSpPr/>
            <p:nvPr/>
          </p:nvSpPr>
          <p:spPr>
            <a:xfrm flipH="1" flipV="1">
              <a:off x="7588080" y="1614240"/>
              <a:ext cx="6480" cy="36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596360" y="1486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596360" y="1935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96360" y="2386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596360" y="2836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596360" y="32878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596360" y="3736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96360" y="41878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96000" y="463860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6000" y="508968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6554880" y="3252600"/>
              <a:ext cx="35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  (%) with sel’n of top 10% of famil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007760" y="2668680"/>
            <a:ext cx="39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=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07760" y="2235240"/>
            <a:ext cx="39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=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07760" y="2087640"/>
            <a:ext cx="39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=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69680" y="4149720"/>
            <a:ext cx="5918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81560" y="3916440"/>
            <a:ext cx="123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nimum prec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07760" y="2363760"/>
            <a:ext cx="39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=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07760" y="2502000"/>
            <a:ext cx="39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=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3440" y="6192720"/>
            <a:ext cx="4687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umptions: h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0.15, r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B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0.60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plo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0.08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100%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ph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2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825720" y="3191040"/>
            <a:ext cx="0" cy="2031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66440" y="3206880"/>
            <a:ext cx="2158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60080" y="3551400"/>
            <a:ext cx="352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odified design = 4 tests, 6 reps, 6 tree row-p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89200" y="260820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rr(g,ghat) = 0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682280" y="2952720"/>
            <a:ext cx="381240" cy="238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873600" y="3254040"/>
            <a:ext cx="365040" cy="237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746440" y="4127040"/>
            <a:ext cx="0" cy="10954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69360" y="4481640"/>
            <a:ext cx="424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Minimum efficiency design = 2 tests, 6 reps, 6 tree row-p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793960" y="4191120"/>
            <a:ext cx="333360" cy="317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5800" y="838080"/>
          <a:ext cx="7169040" cy="52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716904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" name=""/>
          <p:cNvGrpSpPr/>
          <p:nvPr/>
        </p:nvGrpSpPr>
        <p:grpSpPr>
          <a:xfrm>
            <a:off x="7588080" y="1486080"/>
            <a:ext cx="898560" cy="3910680"/>
            <a:chOff x="7588080" y="1486080"/>
            <a:chExt cx="898560" cy="3910680"/>
          </a:xfrm>
        </p:grpSpPr>
        <p:sp>
          <p:nvSpPr>
            <p:cNvPr id="75" name=""/>
            <p:cNvSpPr/>
            <p:nvPr/>
          </p:nvSpPr>
          <p:spPr>
            <a:xfrm flipH="1" flipV="1">
              <a:off x="7588080" y="1614240"/>
              <a:ext cx="6480" cy="36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96360" y="1486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96360" y="1935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96360" y="2386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96360" y="2836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96360" y="32878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96360" y="3736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96360" y="41878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96000" y="463860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000" y="508968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400000">
              <a:off x="6554880" y="3252600"/>
              <a:ext cx="35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  (%) with sel’n of top 10% of famil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011000" y="248760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11000" y="216540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1000" y="203364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669680" y="4167360"/>
            <a:ext cx="5918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81560" y="3930480"/>
            <a:ext cx="123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nimum prec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1000" y="230364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1000" y="268272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11000" y="3254400"/>
            <a:ext cx="39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=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3440" y="6192720"/>
            <a:ext cx="4687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umptions: h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0.15, r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B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0.60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100%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ph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2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286080" y="3571920"/>
            <a:ext cx="0" cy="1666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666800" y="3571920"/>
            <a:ext cx="161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67960" y="3646440"/>
            <a:ext cx="352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odified design = 4 tests, 6 reps, 6 tree row-p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7520" y="2894040"/>
            <a:ext cx="14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rr(g,ghat) = 0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698480" y="3222720"/>
            <a:ext cx="33336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333600" y="3587400"/>
            <a:ext cx="238320" cy="12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5800" y="609480"/>
          <a:ext cx="7169040" cy="54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716904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flipH="1" flipV="1">
            <a:off x="7588080" y="1614240"/>
            <a:ext cx="6480" cy="36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96360" y="14860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96360" y="19350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96360" y="23860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96360" y="28368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32878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96360" y="37368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96360" y="41878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96360" y="46386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96360" y="50896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6604200" y="3317040"/>
            <a:ext cx="34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  (%) with sel’n of top 10% of cl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51000" y="35560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=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8600" y="281628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=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55000" y="26002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=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62720" y="310824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=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669680" y="3392640"/>
            <a:ext cx="5918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81560" y="3402000"/>
            <a:ext cx="123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nimum prec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3440" y="6192720"/>
            <a:ext cx="4687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umptions: H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0.25, r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B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0.60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100%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ph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2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8T20:39:27Z</dcterms:created>
  <dc:creator>Gary R Hodge</dc:creator>
  <dc:description/>
  <dc:language>en-US</dc:language>
  <cp:lastModifiedBy>Gary Hodge</cp:lastModifiedBy>
  <cp:lastPrinted>1999-09-20T14:16:15Z</cp:lastPrinted>
  <dcterms:modified xsi:type="dcterms:W3CDTF">2001-08-09T12:44:46Z</dcterms:modified>
  <cp:revision>23</cp:revision>
  <dc:subject/>
  <dc:title>No Slide Title</dc:title>
</cp:coreProperties>
</file>